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077-F6EF-4208-9FC0-D950BC2F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2DA-3718-481C-8397-B570B464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E76-6E51-4D62-B15B-793C97BC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3FB-36C2-49E8-9E9C-F14AC3E9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C920-4C2C-41B0-8366-7DA0BE26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EE1A-1156-485F-9677-00F81EAC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A2C2-D63F-4FC0-98BD-F6581FFB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74CA-6ECA-4E7C-ADD9-F76EA4BF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A965-3DE2-4FC0-B741-1F88E589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583A-3032-485B-BFAC-C0EE2AEA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C9C0-EE0A-4BFA-9156-3E1110F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BB3-DD28-4738-B039-AEF0F063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6ACD-5DF6-4D75-AB07-C3C89EBD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D68D-F6F8-4E59-BB96-E4E3D258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7C40-2287-4100-9240-DD8E5516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DBF0-4046-4379-9B08-A51504F3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141A-9ECA-4694-9825-E9451D22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983-9034-487D-B1CB-AFC4FC7E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147-7E3A-4D11-97AF-BFE73949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B93-BC20-4FB8-86D3-F222FF9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C08-8265-4FD2-8C03-92C3873D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208-C2B0-4123-B5E5-6EA9AEE9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7D7-6580-4294-A05F-24702067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688-EE10-494B-8F87-F4B8F003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31FC-6F4B-4AE1-9593-545AF607E6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E22B-FB4B-4BF8-8FF0-F40D842B1D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63128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330033"/>
                </a:solidFill>
                <a:latin typeface="Times New Roman"/>
              </a:rPr>
              <a:t>Stanisław Ignacy Witkiewicz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oria Czystej Fo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itkacy pozostawił po sobie wiele FOTOGRAF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2519280" cy="2376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2674800" cy="2219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76360" y="4005360"/>
            <a:ext cx="2479680" cy="25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663640" cy="244800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Witkacy-filozof-katastrofist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erdzi, że cała cywilizacja europejska oparta na chrześcijaństwie i wyrastająca ze starej, antycznej kultury grecko-rzymskiej zmierza ku upadkowi. Świat wkracza w epokę automatyzacji i komputerowej unifikacji, unicestwiając dotychczasowe wartości: sztukę, religię, filozofię.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ZYSTA FORM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całkowite odpolitycznienie sztuk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sztuka nie odtwarza, nie naśladuje, uwolniona jest od rygorów sztuki realistyczn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szokowała odbiorcę deformacją kreowanej rzeczywist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domagała się efektów niezwykłych: asymetrii, dysonansów, zgrzytów, zwichrowanych płaszczyzn, dziwacznych, rażących barw, niesamowitych dźwię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ma zdolność wywoływania w odbiorcy uczuć metafizy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STA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 pewna konstrukcja dowolnych elementów całkowicie uniezależnionych od życiowego prawdopodobieńst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atr to „mózg wariata na scenie”.( Witkacy)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zentację przygotował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ia Mu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imes New Roman"/>
              </a:rPr>
              <a:t>WITKACY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etyk szt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oz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togra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ki eksperymen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10080" y="1627200"/>
            <a:ext cx="2895840" cy="400680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itkacy w oczach Jana Błońskiego</a:t>
            </a:r>
            <a:br>
              <a:rPr sz="38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„Wstęp” do wyboru dramatów BN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672000" cy="5184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10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wak, rozlubowany w niesamowitych nastrojach. Złośliwiec, który drażnił  Bogu ducha winnych, inscenizował nieporozumienia, kaprysił i dokuczał przyjaciołom. Zapamiętały Don Juan, który na dobitkę igrał z narkotykami… Ale również umiał doskonale panować nad namiętnościami, rozpusty nie znosił, podobnie jak wszystkich pospolitych rozryw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1979640" cy="266364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Najważniejsze utwor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1893-debiut literacki:cykl dramatów „Juwenili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1918-szkic „Nowe formy w malarstwi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1919-”Wstęp do teorii Czystej Formy w teatr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1921-drama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„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 małym dworku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„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urka wodn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„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yubal Wahaza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1922-drama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„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ątw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„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n Maciej Karol Wściekl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        „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Nadobnisie i koczkodany”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1922-szkice estetycz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1923-drama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         „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Szalona lokomotywa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         „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Janulka, córka Fizdejki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1924-maluje autoportret”Ostatni papieros skazańca”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dramat „Matka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1927-powieść „Pożegnanie jesieni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1930-powieść „Nienasycenie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1934-dramat „Szewcy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1935-”podstawowe pojęcia i twierdzenia implikowan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przez pojęcie istnienia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1937-studium „Niemyte dusz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ALARSTW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echowane jest kubistyczny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dobaniem do analizy i synte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której wyniku powstają 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 mające nic wspól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 światem realny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65640" y="1600200"/>
            <a:ext cx="3227400" cy="453060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56880" y="1655640"/>
            <a:ext cx="387828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larstwo Witkacego: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sencjonalny styl epo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ubizm pomieszany z ekspresjoniz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futurystyczną krzykliwości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arykatyralna kreska ironii przeczodząca w łby apokaliptycznych best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680000" cy="2727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2768400" cy="316872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2952720" cy="3097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292720" y="26028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219640" y="3645000"/>
            <a:ext cx="3097440" cy="295092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RTRETY</a:t>
            </a:r>
            <a:br>
              <a:rPr sz="3800"/>
            </a:b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Witkacy prowadził firmę portretową</a:t>
            </a:r>
            <a:br>
              <a:rPr sz="1900"/>
            </a:b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160720" cy="223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979640" y="3645000"/>
            <a:ext cx="2211480" cy="2020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044800" cy="209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71680" y="3357720"/>
            <a:ext cx="26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rtret Jadwigi Witkiewicz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3280" y="3357720"/>
            <a:ext cx="179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rtret Marii Nawrocki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5681520"/>
            <a:ext cx="24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rtret Tadeusza Ficowsk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01320" y="5754600"/>
            <a:ext cx="191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rtret Neny Stachurski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2:19:27Z</dcterms:created>
  <dc:creator>student10c</dc:creator>
  <dc:description/>
  <dc:language>en-US</dc:language>
  <cp:lastModifiedBy>student10c</cp:lastModifiedBy>
  <dcterms:modified xsi:type="dcterms:W3CDTF">2002-11-08T11:30:18Z</dcterms:modified>
  <cp:revision>18</cp:revision>
  <dc:subject/>
  <dc:title>Stanisław Ignacy Witkiewicz</dc:title>
</cp:coreProperties>
</file>